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3FE-4426-4678-A694-F145DC4C6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64E-3F7F-4E67-8F98-DAFD3F89C9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E09-F6A4-4F80-8C9E-C8E97809B2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97DD-C501-4E54-ADD5-5615295EB7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0C6E-F333-447F-8C59-F3F2BDE314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BEC-E766-4A46-9B02-2D1D4D4B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497-2BB8-4487-A761-E51806F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1BB-8E33-465E-9F2A-42463EAA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A29-F9F1-41AB-AF74-B6B1C122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D7B-8B9B-429E-BE2B-AC47665C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0DD-93DA-427E-9BD4-A66F55F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D03-7FAE-448D-86C3-FCBC73A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44C1-6CF3-4AA1-9588-70EB2FE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CB9E-EBF8-443B-A557-8C681421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773-A10F-4B22-B733-4DA971F2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F09A-61CC-4F13-8C81-FB57EB2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0CA-F80B-4939-B97C-0569DB6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1E6-09A3-49DE-8BEA-A296411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B11C-FCB1-4BDB-A7E6-F4CB016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EC1-3BE1-4050-BBB1-DFED86F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237-D656-4BCB-8F28-D77F1C31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BA88-DF05-4FBA-9F98-D6684D6E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CA5-78BF-468D-93FA-F35523D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485-5A51-4369-909C-5982905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FD5-FCC9-41C0-8195-F307525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41B-9E52-4F4C-8192-0D9434DB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FD3-70F8-42DC-96D6-862802F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A7-9C47-441D-92DB-763D797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2BB-BF46-4E88-95EA-DAC8715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498-825A-4950-AEF7-4051768F76A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6AC9-68BE-479A-ACA4-DA43FECE59B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kraftwerk-tourdefrance"/>
          <p:cNvPicPr/>
          <p:nvPr/>
        </p:nvPicPr>
        <p:blipFill>
          <a:blip r:embed="rId1"/>
          <a:stretch/>
        </p:blipFill>
        <p:spPr>
          <a:xfrm>
            <a:off x="108000" y="11592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615960" y="198756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ект для учащихся 10-11 клас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тить знания учащихся по страноведению  Фра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любовь к спор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85067"/>
          <p:cNvPicPr/>
          <p:nvPr/>
        </p:nvPicPr>
        <p:blipFill>
          <a:blip r:embed="rId2"/>
          <a:stretch/>
        </p:blipFill>
        <p:spPr>
          <a:xfrm>
            <a:off x="4572000" y="3933720"/>
            <a:ext cx="4068720" cy="276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274680" y="96840"/>
            <a:ext cx="868680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чалась истор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ur de Franc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ы основные принципы велогон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ю призовых ма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ьтурные тради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некоторые интересные фа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орах го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гендарных участни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дител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х гонщи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создание проекта ученикам даётся 6-8 часов. Из них 1 или 2 часа на поиск информации, 2-3 часа на создание и 1-2 часа на защиту прое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л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репортаж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н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я викторины среди одноклассников по данной те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td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3573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Bonne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hanc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ru.wikipedia.org/wiki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www.eventguide.ru/event/107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blog.ebike.ru/wps/2008/02/20/istoriya-tur-de-fran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428 группы факультета иностранных языков КГПИ Холопова Оль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0-25T15:24:02Z</dcterms:modified>
  <cp:revision>14</cp:revision>
  <dc:subject/>
  <dc:title>Le tour de france</dc:title>
</cp:coreProperties>
</file>